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250-3E59-4B16-BD06-8D9536B1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7B6-8C69-4AB6-83DF-70EE64F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F1E-C5D9-40DA-BC45-421B004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76A-D6CC-4815-92CA-12D198B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4F4-B256-423F-AA75-5D70B01C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337-E5A6-4614-A0A0-76FF5045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DA9-F7D3-418E-8E25-3297285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A91-F5CF-46A1-A342-361906A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245-2466-48A8-B03D-091AB6A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885-2C15-4169-9500-0137702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362-E323-4D45-9516-2FFE3D5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716-E855-483E-AC1D-47914CE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190-0228-412F-8C4E-6FB1A2E0D86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it Spaß und Köpfchen zum eigenen Erfolgserleb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148360" y="6165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048200" y="625140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239080" y="623736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ferent: Andreas Hahn, DL7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feld 4"/>
          <p:cNvSpPr/>
          <p:nvPr/>
        </p:nvSpPr>
        <p:spPr>
          <a:xfrm>
            <a:off x="2978280" y="1916280"/>
            <a:ext cx="31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Nach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feld 6"/>
          <p:cNvSpPr/>
          <p:nvPr/>
        </p:nvSpPr>
        <p:spPr>
          <a:xfrm>
            <a:off x="2118240" y="3141720"/>
            <a:ext cx="487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gene ZIELSETZUNG erreic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rechnungszeitpun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abrillo, STF oder Papier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oftwareseitige Nachberei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chhö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test- und Clubreflekt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bau, Duschen, Ausschlaf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BN-Re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besserungsliste für den nächsten Con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16360" y="765000"/>
            <a:ext cx="295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triebstech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7200" y="1844640"/>
            <a:ext cx="9012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utes Gehör bekommt man durch langjährige Erfahrung, ständi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obachten der Bänder und dem damit verbundenen Hö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elles Arbeiten bedeutet bei der Länderjagd das präzise Umsetz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Anweisungen der DX-Station, gezieltes Setzen des eigenen Rufes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ellstmögliche Bandwech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utliche Aussprache gehört wie eine gute Kenntnis der englischen Spra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um „Muß“ eines jeden DXers. In CW ist dies das saubere Geben der Mors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eich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lle gängigen Q-Gruppen, gebräuchlichen Abkürzungen und Landeske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hören zum täglichen Gebrauch eines Funkamat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AM-Spirit gehört zum Anstand! Es geht um „unsere“ Frequenz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51080" y="801720"/>
            <a:ext cx="452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Stationsausrüst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1600" y="179244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ceiver sollten möglichst mit Filtern ausgerüstet sei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Split-Funktion unterstützen und Großsignalfest se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lfreich sind Speicherfunktionen, „Stacking Racks“, Sprachspeic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perate Empfangsantenneneingänge, Vorverstärker, Abschwächer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tennen sind platzabhängig. Je richtungswirksamer, desto bess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Je mehr, desto schön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dstufen helfen, zeitiger durchs PileUp zu stossen oder einfach 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hört zu werden. Röhren-PAs sind nicht so anfällig wie Transistor-P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uster-Anbindung über PacketRadio oder Internet ist ein „Muß“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566520" y="907920"/>
            <a:ext cx="1738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Glü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552320" y="3213000"/>
            <a:ext cx="5821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von kann man immer was gebrauch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1440" y="270828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erfolgreiche Contesten auf den HF-Bänd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8360" y="6165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048200" y="625140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441440" y="5157720"/>
            <a:ext cx="6400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echter (Denk-)Spor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es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Grafik 9" descr="Stack&amp;Single.jpg"/>
          <p:cNvPicPr/>
          <p:nvPr/>
        </p:nvPicPr>
        <p:blipFill>
          <a:blip r:embed="rId1"/>
          <a:stretch/>
        </p:blipFill>
        <p:spPr>
          <a:xfrm>
            <a:off x="2627280" y="1413000"/>
            <a:ext cx="3652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98100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feld 4"/>
          <p:cNvSpPr/>
          <p:nvPr/>
        </p:nvSpPr>
        <p:spPr>
          <a:xfrm>
            <a:off x="2699280" y="19890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12880" y="107316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feld 4"/>
          <p:cNvSpPr/>
          <p:nvPr/>
        </p:nvSpPr>
        <p:spPr>
          <a:xfrm>
            <a:off x="2609640" y="197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feld 5"/>
          <p:cNvSpPr/>
          <p:nvPr/>
        </p:nvSpPr>
        <p:spPr>
          <a:xfrm>
            <a:off x="2623320" y="30686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12880" y="107316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feld 4"/>
          <p:cNvSpPr/>
          <p:nvPr/>
        </p:nvSpPr>
        <p:spPr>
          <a:xfrm>
            <a:off x="2609640" y="197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feld 5"/>
          <p:cNvSpPr/>
          <p:nvPr/>
        </p:nvSpPr>
        <p:spPr>
          <a:xfrm>
            <a:off x="2623320" y="30988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feld 6"/>
          <p:cNvSpPr/>
          <p:nvPr/>
        </p:nvSpPr>
        <p:spPr>
          <a:xfrm>
            <a:off x="2623320" y="422100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Nach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3156840" y="1916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feld 6"/>
          <p:cNvSpPr/>
          <p:nvPr/>
        </p:nvSpPr>
        <p:spPr>
          <a:xfrm>
            <a:off x="2308680" y="3141720"/>
            <a:ext cx="449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gene ZIELSETZ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lcher Contest soll‘s denn se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lche Klasse ist die Richti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pier oder Softwa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chnische Voraussetzu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breitungsvorhers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pfleg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u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betri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OP-Liste, Aufgabenli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und natürlich alles, was oben schon ste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feld 4"/>
          <p:cNvSpPr/>
          <p:nvPr/>
        </p:nvSpPr>
        <p:spPr>
          <a:xfrm>
            <a:off x="308052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feld 6"/>
          <p:cNvSpPr/>
          <p:nvPr/>
        </p:nvSpPr>
        <p:spPr>
          <a:xfrm>
            <a:off x="914400" y="3141720"/>
            <a:ext cx="7285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ersten Minuten (richtiges Band, Running oder S&amp;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and- und Modewechs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sondere Regeln beachten (Pausen, Bandwechsel pro Stun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ultiplikat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unkte (z.B. DX – EU – D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ann mache ich eine Pa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as esse ic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e gehe ich mit Mr. Murphy um? (Der Kerl kommt bestimmt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ielsetzung im Auge zu behalten, erhält die Motivation am Le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wischenstände und Onlinesc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feld 4"/>
          <p:cNvSpPr/>
          <p:nvPr/>
        </p:nvSpPr>
        <p:spPr>
          <a:xfrm>
            <a:off x="308052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feld 6"/>
          <p:cNvSpPr/>
          <p:nvPr/>
        </p:nvSpPr>
        <p:spPr>
          <a:xfrm>
            <a:off x="2262240" y="3213000"/>
            <a:ext cx="458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betri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Welches Team geht an den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 / Multi, Multi / 2R oder Multi / Sing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2-OP-Tech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nning und Multis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03:56Z</dcterms:created>
  <dc:creator>MitarbeiterIn</dc:creator>
  <dc:description/>
  <dc:language>en-US</dc:language>
  <cp:lastModifiedBy>Andreas Hahn</cp:lastModifiedBy>
  <dcterms:modified xsi:type="dcterms:W3CDTF">2013-05-28T20:45:04Z</dcterms:modified>
  <cp:revision>28</cp:revision>
  <dc:subject/>
  <dc:title>Jagen und Sammeln</dc:title>
</cp:coreProperties>
</file>