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C8A-0A2B-427B-B664-5AD7EFDD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458-0F60-4EB8-ACE6-07662190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3B5-C510-435A-B547-8BBF98F9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97C-EE8E-4033-BA85-932419EC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FEB-1BF5-40DA-A49A-34079ED6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4C5-351B-4B7A-8436-5D10DAF0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E9D-3C42-4D52-8C08-82B3A00E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2D5-6902-4C7C-BBDA-8E5D7145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D878-17FB-4247-88A2-95875E6C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4A8-5AE7-4A2B-AF70-73EC3D97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270-1E8E-4128-B5C1-745C16CB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18D-F0C9-41FA-8D1F-6B92A9A4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AA95-C973-4E1B-8AB8-09C1466F2756}" type="slidenum">
              <a:rPr b="0" lang="de-D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it Spaß und Köpfchen zum eigenen Erfolgserlebn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148360" y="6165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048200" y="6251400"/>
            <a:ext cx="23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239080" y="6237360"/>
            <a:ext cx="35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Referent: Andreas Hahn, DL7Z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812880" y="98100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feld 4"/>
          <p:cNvSpPr/>
          <p:nvPr/>
        </p:nvSpPr>
        <p:spPr>
          <a:xfrm>
            <a:off x="2978280" y="1916280"/>
            <a:ext cx="31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Nachbereit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feld 6"/>
          <p:cNvSpPr/>
          <p:nvPr/>
        </p:nvSpPr>
        <p:spPr>
          <a:xfrm>
            <a:off x="2118240" y="3141720"/>
            <a:ext cx="487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gene ZIELSETZUNG erreic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brechnungszeitpun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abrillo, STF oder Papier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oftwareseitige Nachbereit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Nachhö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ntest- und Clubreflekto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bbau, Duschen, Ausschlaf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UBN-Re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besserungsliste für den nächsten Con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916360" y="765000"/>
            <a:ext cx="2958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triebstech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-7200" y="1844640"/>
            <a:ext cx="9012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utes Gehör bekommt man durch langjährige Erfahrung, ständig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obachten der Bänder und dem damit verbundenen Hö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nelles Arbeiten bedeutet bei der Länderjagd das präzise Umsetz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r Anweisungen der DX-Station, gezieltes Setzen des eigenen Rufes 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chnellstmögliche Bandwech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eutliche Aussprache gehört wie eine gute Kenntnis der englischen Sprac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zum „Muß“ eines jeden DXers. In CW ist dies das saubere Geben der Morse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zeich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lle gängigen Q-Gruppen, gebräuchlichen Abkürzungen und Landeske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ehören zum täglichen Gebrauch eines Funkamateu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AM-Spirit gehört zum Anstand! Es geht um „unsere“ Frequenz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8604360" y="6381720"/>
            <a:ext cx="338040" cy="2667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51080" y="801720"/>
            <a:ext cx="4527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Stationsausrüstu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71600" y="1792440"/>
            <a:ext cx="850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ransceiver sollten möglichst mit Filtern ausgerüstet sei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Split-Funktion unterstützen und Großsignalfest se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ilfreich sind Speicherfunktionen, „Stacking Racks“, Sprachspeiche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perate Empfangsantenneneingänge, Vorverstärker, Abschwächer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ntennen sind platzabhängig. Je richtungswirksamer, desto bess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Je mehr, desto schön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ndstufen helfen, zeitiger durchs PileUp zu stossen oder einfach 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gehört zu werden. Röhren-PAs sind nicht so anfällig wie Transistor-P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luster-Anbindung über PacketRadio oder Internet ist ein „Muß“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8604360" y="6381720"/>
            <a:ext cx="338040" cy="2667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566520" y="907920"/>
            <a:ext cx="1738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"/>
              </a:rPr>
              <a:t>Glüc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552320" y="3213000"/>
            <a:ext cx="5821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von kann man immer was gebrauch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8604360" y="6381720"/>
            <a:ext cx="338040" cy="2667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4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41440" y="270828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as erfolgreiche Contesten auf den HF-Bänd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148360" y="6165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048200" y="6251400"/>
            <a:ext cx="23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1441440" y="5157720"/>
            <a:ext cx="640080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n echter (Denk-)Sport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es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Grafik 9" descr="Stack&amp;Single.jpg"/>
          <p:cNvPicPr/>
          <p:nvPr/>
        </p:nvPicPr>
        <p:blipFill>
          <a:blip r:embed="rId1"/>
          <a:stretch/>
        </p:blipFill>
        <p:spPr>
          <a:xfrm>
            <a:off x="2627280" y="1413000"/>
            <a:ext cx="365292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826920" y="981000"/>
            <a:ext cx="7488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812880" y="98100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feld 4"/>
          <p:cNvSpPr/>
          <p:nvPr/>
        </p:nvSpPr>
        <p:spPr>
          <a:xfrm>
            <a:off x="2699280" y="198900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Vorbereit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12880" y="107316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feld 4"/>
          <p:cNvSpPr/>
          <p:nvPr/>
        </p:nvSpPr>
        <p:spPr>
          <a:xfrm>
            <a:off x="2609640" y="197640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Vorbereit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feld 5"/>
          <p:cNvSpPr/>
          <p:nvPr/>
        </p:nvSpPr>
        <p:spPr>
          <a:xfrm>
            <a:off x="2623320" y="306864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urchführ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12880" y="107316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feld 4"/>
          <p:cNvSpPr/>
          <p:nvPr/>
        </p:nvSpPr>
        <p:spPr>
          <a:xfrm>
            <a:off x="2609640" y="197640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Vorbereit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feld 5"/>
          <p:cNvSpPr/>
          <p:nvPr/>
        </p:nvSpPr>
        <p:spPr>
          <a:xfrm>
            <a:off x="2623320" y="3098880"/>
            <a:ext cx="38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urchführ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feld 6"/>
          <p:cNvSpPr/>
          <p:nvPr/>
        </p:nvSpPr>
        <p:spPr>
          <a:xfrm>
            <a:off x="2623320" y="422100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Nachbereit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12880" y="98100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feld 4"/>
          <p:cNvSpPr/>
          <p:nvPr/>
        </p:nvSpPr>
        <p:spPr>
          <a:xfrm>
            <a:off x="3156840" y="191628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Vorbereit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feld 6"/>
          <p:cNvSpPr/>
          <p:nvPr/>
        </p:nvSpPr>
        <p:spPr>
          <a:xfrm>
            <a:off x="2308680" y="3141720"/>
            <a:ext cx="4496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igene ZIELSETZ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elcher Contest soll‘s denn se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elche Klasse ist die Richti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pier oder Softwar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echnische Voraussetzu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usbreitungsvorhersa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erpfleg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au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ultibetri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OP-Liste, Aufgabenli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und natürlich alles, was oben schon ste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812880" y="98100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feld 4"/>
          <p:cNvSpPr/>
          <p:nvPr/>
        </p:nvSpPr>
        <p:spPr>
          <a:xfrm>
            <a:off x="3080520" y="1916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urchführ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feld 6"/>
          <p:cNvSpPr/>
          <p:nvPr/>
        </p:nvSpPr>
        <p:spPr>
          <a:xfrm>
            <a:off x="914400" y="3141720"/>
            <a:ext cx="7285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ersten Minuten (richtiges Band, Running oder S&amp;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and- und Modewechs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sondere Regeln beachten (Pausen, Bandwechsel pro Stun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ultiplikato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unkte (z.B. DX – EU – D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ann mache ich eine Pa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as esse ich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ie gehe ich mit Mr. Murphy um? (Der Kerl kommt bestimmt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e Zielsetzung im Auge zu behalten, erhält die Motivation am Leb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Zwischenstände und Onlinesc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b7e7ff"/>
                </a:solidFill>
                <a:latin typeface="Arial"/>
              </a:rPr>
              <a:t>Erfolgreich Contesten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07672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12880" y="981000"/>
            <a:ext cx="748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schaffe ich es, Spaß am Contest zu hab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feld 4"/>
          <p:cNvSpPr/>
          <p:nvPr/>
        </p:nvSpPr>
        <p:spPr>
          <a:xfrm>
            <a:off x="3080520" y="1916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Durchführ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feld 6"/>
          <p:cNvSpPr/>
          <p:nvPr/>
        </p:nvSpPr>
        <p:spPr>
          <a:xfrm>
            <a:off x="2262240" y="3213000"/>
            <a:ext cx="458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ultibetri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Welches Team geht an den Star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ulti / Multi, Multi / 2R oder Multi / Sing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2-OP-Techni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nning und Multisu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2:03:56Z</dcterms:created>
  <dc:creator>MitarbeiterIn</dc:creator>
  <dc:description/>
  <dc:language>en-US</dc:language>
  <cp:lastModifiedBy>Andreas Hahn</cp:lastModifiedBy>
  <dcterms:modified xsi:type="dcterms:W3CDTF">2013-05-28T20:45:04Z</dcterms:modified>
  <cp:revision>28</cp:revision>
  <dc:subject/>
  <dc:title>Jagen und Sammeln</dc:title>
</cp:coreProperties>
</file>