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6BE-E2AE-4271-ABB7-29B5A48F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EB3-8204-4097-B656-5FA31EAA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2AB-C94D-4F3B-BFD4-68065465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EC7-809B-4423-8EC0-1E1D048D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A80-400E-414C-A6D7-B31DCB0E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239-3016-4D36-A1C2-D13B01A5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03C-8D3D-4680-8E6D-C08CF931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8DD-F33D-40D4-BF34-88C364E9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FFA-EBF1-444B-91EF-37DDD03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4AE-507F-4DCF-B3B3-42046DC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EB7-F86B-49AD-B864-C189695C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FAA-A225-4235-B46B-6C25F17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F5B4-8378-46C0-8E4A-4F1D5B492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kumente und Einstellungen\DF9VI\Desktop\Tiger.jpg"/>
          <p:cNvPicPr/>
          <p:nvPr/>
        </p:nvPicPr>
        <p:blipFill>
          <a:blip r:embed="rId1"/>
          <a:stretch/>
        </p:blipFill>
        <p:spPr>
          <a:xfrm>
            <a:off x="228600" y="228600"/>
            <a:ext cx="4282920" cy="321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kumente und Einstellungen\DF9VI\Desktop\Tiger.jpg"/>
          <p:cNvPicPr/>
          <p:nvPr/>
        </p:nvPicPr>
        <p:blipFill>
          <a:blip r:embed="rId2"/>
          <a:stretch/>
        </p:blipFill>
        <p:spPr>
          <a:xfrm>
            <a:off x="4648320" y="228600"/>
            <a:ext cx="4282920" cy="321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kumente und Einstellungen\DF9VI\Desktop\Tiger.jpg"/>
          <p:cNvPicPr/>
          <p:nvPr/>
        </p:nvPicPr>
        <p:blipFill>
          <a:blip r:embed="rId3"/>
          <a:stretch/>
        </p:blipFill>
        <p:spPr>
          <a:xfrm>
            <a:off x="228600" y="3505320"/>
            <a:ext cx="4282920" cy="321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kumente und Einstellungen\DF9VI\Desktop\Tiger.jpg"/>
          <p:cNvPicPr/>
          <p:nvPr/>
        </p:nvPicPr>
        <p:blipFill>
          <a:blip r:embed="rId4"/>
          <a:stretch/>
        </p:blipFill>
        <p:spPr>
          <a:xfrm>
            <a:off x="4648320" y="3505320"/>
            <a:ext cx="42829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C:\Dokumente und Einstellungen\DF9VI\Desktop\New Picture.bmp"/>
          <p:cNvPicPr/>
          <p:nvPr/>
        </p:nvPicPr>
        <p:blipFill>
          <a:blip r:embed="rId1"/>
          <a:stretch/>
        </p:blipFill>
        <p:spPr>
          <a:xfrm>
            <a:off x="304920" y="152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kumente und Einstellungen\DF9VI\Desktop\New Picture.bmp"/>
          <p:cNvPicPr/>
          <p:nvPr/>
        </p:nvPicPr>
        <p:blipFill>
          <a:blip r:embed="rId2"/>
          <a:stretch/>
        </p:blipFill>
        <p:spPr>
          <a:xfrm>
            <a:off x="30492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kumente und Einstellungen\DF9VI\Desktop\New Picture.bmp"/>
          <p:cNvPicPr/>
          <p:nvPr/>
        </p:nvPicPr>
        <p:blipFill>
          <a:blip r:embed="rId3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kumente und Einstellungen\DF9VI\Desktop\New Picture.bmp"/>
          <p:cNvPicPr/>
          <p:nvPr/>
        </p:nvPicPr>
        <p:blipFill>
          <a:blip r:embed="rId4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7:26:04Z</dcterms:created>
  <dc:creator>DF9VI</dc:creator>
  <dc:description/>
  <dc:language>en-US</dc:language>
  <cp:lastModifiedBy>DF9VI</cp:lastModifiedBy>
  <dcterms:modified xsi:type="dcterms:W3CDTF">2012-11-16T17:26:25Z</dcterms:modified>
  <cp:revision>1</cp:revision>
  <dc:subject/>
  <dc:title>Folie 1</dc:title>
</cp:coreProperties>
</file>