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1A8-1F59-4DAC-82C1-C20038A6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C3E-189E-4678-84B1-A2063737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3C3-6628-4F7D-821A-CE63E97B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E76-3DAB-4559-9672-0D2D0C25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C90-4BAC-4078-A9E4-C585113F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C9B-94E6-4459-92AD-417019CA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3FAA-4986-43BC-8EF4-F9CCB5BD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427F-8257-4C83-8106-BAF55B71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89B-BC77-4DE0-842B-C4B42FF9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C97A-1C2A-4E66-8BBF-2B33F09A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DE0-3A87-46EE-991A-123BE0D1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B8C-6A33-49DB-9F5B-7B175D47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2BA3-8E69-4961-B848-E70F6BAF72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kumente und Einstellungen\DF9VI\Desktop\Tiger.jpg"/>
          <p:cNvPicPr/>
          <p:nvPr/>
        </p:nvPicPr>
        <p:blipFill>
          <a:blip r:embed="rId1"/>
          <a:stretch/>
        </p:blipFill>
        <p:spPr>
          <a:xfrm>
            <a:off x="228600" y="228600"/>
            <a:ext cx="4282920" cy="321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Dokumente und Einstellungen\DF9VI\Desktop\Tiger.jpg"/>
          <p:cNvPicPr/>
          <p:nvPr/>
        </p:nvPicPr>
        <p:blipFill>
          <a:blip r:embed="rId2"/>
          <a:stretch/>
        </p:blipFill>
        <p:spPr>
          <a:xfrm>
            <a:off x="4648320" y="228600"/>
            <a:ext cx="4282920" cy="3216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kumente und Einstellungen\DF9VI\Desktop\Tiger.jpg"/>
          <p:cNvPicPr/>
          <p:nvPr/>
        </p:nvPicPr>
        <p:blipFill>
          <a:blip r:embed="rId3"/>
          <a:stretch/>
        </p:blipFill>
        <p:spPr>
          <a:xfrm>
            <a:off x="228600" y="3505320"/>
            <a:ext cx="4282920" cy="321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kumente und Einstellungen\DF9VI\Desktop\Tiger.jpg"/>
          <p:cNvPicPr/>
          <p:nvPr/>
        </p:nvPicPr>
        <p:blipFill>
          <a:blip r:embed="rId4"/>
          <a:stretch/>
        </p:blipFill>
        <p:spPr>
          <a:xfrm>
            <a:off x="4648320" y="3505320"/>
            <a:ext cx="42829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C:\Dokumente und Einstellungen\DF9VI\Desktop\New Picture.bmp"/>
          <p:cNvPicPr/>
          <p:nvPr/>
        </p:nvPicPr>
        <p:blipFill>
          <a:blip r:embed="rId1"/>
          <a:stretch/>
        </p:blipFill>
        <p:spPr>
          <a:xfrm>
            <a:off x="304920" y="1522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Dokumente und Einstellungen\DF9VI\Desktop\New Picture.bmp"/>
          <p:cNvPicPr/>
          <p:nvPr/>
        </p:nvPicPr>
        <p:blipFill>
          <a:blip r:embed="rId2"/>
          <a:stretch/>
        </p:blipFill>
        <p:spPr>
          <a:xfrm>
            <a:off x="304920" y="350532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kumente und Einstellungen\DF9VI\Desktop\New Picture.bmp"/>
          <p:cNvPicPr/>
          <p:nvPr/>
        </p:nvPicPr>
        <p:blipFill>
          <a:blip r:embed="rId3"/>
          <a:stretch/>
        </p:blipFill>
        <p:spPr>
          <a:xfrm>
            <a:off x="4724280" y="1522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C:\Dokumente und Einstellungen\DF9VI\Desktop\New Picture.bmp"/>
          <p:cNvPicPr/>
          <p:nvPr/>
        </p:nvPicPr>
        <p:blipFill>
          <a:blip r:embed="rId4"/>
          <a:stretch/>
        </p:blipFill>
        <p:spPr>
          <a:xfrm>
            <a:off x="4724280" y="350532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7:26:04Z</dcterms:created>
  <dc:creator>DF9VI</dc:creator>
  <dc:description/>
  <dc:language>en-US</dc:language>
  <cp:lastModifiedBy>DF9VI</cp:lastModifiedBy>
  <dcterms:modified xsi:type="dcterms:W3CDTF">2012-11-16T17:26:25Z</dcterms:modified>
  <cp:revision>1</cp:revision>
  <dc:subject/>
  <dc:title>Folie 1</dc:title>
</cp:coreProperties>
</file>