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D75-7892-43FD-89E2-9A6B18F5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EDE-858D-44A1-B7ED-7ADDE87A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266-91CB-4EB3-9A2C-B4114D25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DE3-DA8E-4DE2-97AC-53AB1E5C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67F-7BBC-4C62-9222-95E47C4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BAD-42E3-445B-ADD5-C790FCB1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049-2EA3-409B-8671-3CA3DC90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90E-2E77-4F07-A94F-498AC20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425-5633-4B5A-B7C0-6BA2DC9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773-C87C-44D7-9B94-74EB52D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912-2CB9-4727-911F-885DE1C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26C-64C6-4CC6-9146-1D771D9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C1F-C27B-4611-A37D-538081F11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8"/>
          <p:cNvSpPr/>
          <p:nvPr/>
        </p:nvSpPr>
        <p:spPr>
          <a:xfrm>
            <a:off x="1800" y="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tsverband Tübingen, Luise-Wetzel-We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DARC Logo"/>
          <p:cNvPicPr/>
          <p:nvPr/>
        </p:nvPicPr>
        <p:blipFill>
          <a:blip r:embed="rId1"/>
          <a:stretch/>
        </p:blipFill>
        <p:spPr>
          <a:xfrm>
            <a:off x="5430960" y="0"/>
            <a:ext cx="1427040" cy="922320"/>
          </a:xfrm>
          <a:prstGeom prst="rect">
            <a:avLst/>
          </a:prstGeom>
          <a:ln w="0">
            <a:noFill/>
          </a:ln>
        </p:spPr>
      </p:pic>
      <p:sp>
        <p:nvSpPr>
          <p:cNvPr id="43" name="Textfeld 10"/>
          <p:cNvSpPr/>
          <p:nvPr/>
        </p:nvSpPr>
        <p:spPr>
          <a:xfrm>
            <a:off x="0" y="1000080"/>
            <a:ext cx="41295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se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rzbeschrei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iderstand 1KOhm  braun-schwarz-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iderstand 6,8 Kohm blau-grau-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ondensatoren 10µF Polung: Rille =&gt;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unterschiedliche Transistoren : Symbol beachten (Halbm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ondensator 680nF keine Po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Gerade Verbindung 14"/>
          <p:cNvSpPr/>
          <p:nvPr/>
        </p:nvSpPr>
        <p:spPr>
          <a:xfrm>
            <a:off x="0" y="642960"/>
            <a:ext cx="4143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1"/>
          <p:cNvSpPr/>
          <p:nvPr/>
        </p:nvSpPr>
        <p:spPr>
          <a:xfrm>
            <a:off x="3147480" y="3143160"/>
            <a:ext cx="347400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bauhinwe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uf Holzbrettchen legen (Löcher beachte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ssnägel einschl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ssnägel verzin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htverbindungen lö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uteile löten, dabei auf Einbaurichtung 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 Taste bekommt ein kleines Holzstück 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chlußdraht auf der Unterseite anlö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zte Kontrolle, ob alles richtig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ie anschließen, Polung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C:\Dokumente und Einstellungen\DF9VI\Desktop\Fotos-Baubeschreibungen\Morsetaste-k.JPG"/>
          <p:cNvPicPr/>
          <p:nvPr/>
        </p:nvPicPr>
        <p:blipFill>
          <a:blip r:embed="rId2"/>
          <a:stretch/>
        </p:blipFill>
        <p:spPr>
          <a:xfrm>
            <a:off x="0" y="3143160"/>
            <a:ext cx="2797200" cy="167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medienwatch.files.wordpress.com/2009/04/morsealphabet.jpg"/>
          <p:cNvPicPr/>
          <p:nvPr/>
        </p:nvPicPr>
        <p:blipFill>
          <a:blip r:embed="rId3"/>
          <a:stretch/>
        </p:blipFill>
        <p:spPr>
          <a:xfrm>
            <a:off x="1071720" y="5500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1:46:51Z</dcterms:created>
  <dc:creator>DF9VI</dc:creator>
  <dc:description/>
  <dc:language>en-US</dc:language>
  <cp:lastModifiedBy>DF9VI</cp:lastModifiedBy>
  <dcterms:modified xsi:type="dcterms:W3CDTF">2012-11-14T17:05:54Z</dcterms:modified>
  <cp:revision>9</cp:revision>
  <dc:subject/>
  <dc:title>Folie 1</dc:title>
</cp:coreProperties>
</file>