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DDD-7E02-44FC-A095-9016CDB5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597-FB80-432D-BC18-BEA07E6D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E69-AE83-497B-82F4-CAD21D91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8B9-B86F-488D-AF7D-3B8FBAB0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6FF-EA29-47E5-82DE-3B3B9E31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677C-D2F5-4B3C-96A2-F5B3ACA7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FBB-4D71-4329-94D9-FE435A40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42C-43BF-4DD2-9C27-4E4FA70C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83F-100A-4500-A19B-A0CB24AE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EE5-F66F-4C91-A352-71DE75F9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BBB-24F1-426E-8D2F-DDED2413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504-1879-4B76-89A7-2F515E5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4856-6B82-4B23-B9AD-F0F3BF697F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740412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2423520" y="3933720"/>
            <a:ext cx="39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Radio Club e.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orte 9"/>
          <p:cNvSpPr/>
          <p:nvPr/>
        </p:nvSpPr>
        <p:spPr>
          <a:xfrm>
            <a:off x="900000" y="620640"/>
            <a:ext cx="7128000" cy="5545080"/>
          </a:xfrm>
          <a:custGeom>
            <a:avLst/>
            <a:gdLst>
              <a:gd name="textAreaLeft" fmla="*/ 1043640 w 7128000"/>
              <a:gd name="textAreaRight" fmla="*/ 6084360 w 7128000"/>
              <a:gd name="textAreaTop" fmla="*/ 811800 h 5545080"/>
              <a:gd name="textAreaBottom" fmla="*/ 4733280 h 5545080"/>
            </a:gdLst>
            <a:ahLst/>
            <a:rect l="textAreaLeft" t="textAreaTop" r="textAreaRight" b="textAreaBottom"/>
            <a:pathLst>
              <a:path w="7128792" h="5544616">
                <a:moveTo>
                  <a:pt x="7128792" y="2772308"/>
                </a:moveTo>
                <a:lnTo>
                  <a:pt x="7128792" y="2772308"/>
                </a:lnTo>
                <a:arcTo wR="3564396" hR="2772308" stAng="0" swAng="16200004"/>
                <a:lnTo>
                  <a:pt x="3564396" y="2772308"/>
                </a:ln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23:38:13Z</dcterms:modified>
  <cp:revision>6</cp:revision>
  <dc:subject/>
  <dc:title>Folie 1</dc:title>
</cp:coreProperties>
</file>