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634-0D80-49CF-B6F5-58F72938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76F-7B84-4347-B643-E687244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9D1-12D4-404A-931E-49557762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726-24D8-45C3-ABFF-888502A0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C19-A3EB-4E62-82A3-6036432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BC6-6056-4D2B-8D8B-30BBD99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AB7-A71D-4E00-A700-30653646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3E3-D12D-4C03-9B47-7E5C5A5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B89-F861-4392-956A-8CC281A0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9F8-E067-4C1F-9AB6-657C5E0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0F3-E76C-40E1-B5B7-A3588DB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3EC-AE43-4B63-9076-CA38A74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B0D-990C-4DC8-A180-768FA9AE6B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2423520" y="393372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orte 9"/>
          <p:cNvSpPr/>
          <p:nvPr/>
        </p:nvSpPr>
        <p:spPr>
          <a:xfrm>
            <a:off x="900000" y="620640"/>
            <a:ext cx="7128000" cy="5545080"/>
          </a:xfrm>
          <a:custGeom>
            <a:avLst/>
            <a:gdLst>
              <a:gd name="textAreaLeft" fmla="*/ 1043640 w 7128000"/>
              <a:gd name="textAreaRight" fmla="*/ 6084360 w 7128000"/>
              <a:gd name="textAreaTop" fmla="*/ 811800 h 5545080"/>
              <a:gd name="textAreaBottom" fmla="*/ 4733280 h 5545080"/>
            </a:gdLst>
            <a:ahLst/>
            <a:rect l="textAreaLeft" t="textAreaTop" r="textAreaRight" b="textAreaBottom"/>
            <a:pathLst>
              <a:path w="7128792" h="5544616">
                <a:moveTo>
                  <a:pt x="7128792" y="2772308"/>
                </a:moveTo>
                <a:lnTo>
                  <a:pt x="7128792" y="2772308"/>
                </a:lnTo>
                <a:arcTo wR="3564396" hR="2772308" stAng="0" swAng="16200004"/>
                <a:lnTo>
                  <a:pt x="3564396" y="2772308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8:13Z</dcterms:modified>
  <cp:revision>6</cp:revision>
  <dc:subject/>
  <dc:title>Folie 1</dc:title>
</cp:coreProperties>
</file>