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CB6-2E6F-4DE1-A051-F1CFCF9C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D4D-69ED-4C88-83A2-BDBF11A1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2E8-7FC7-4BFE-815A-9A4241A0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CD0-7EC3-47F1-9C21-5C6D4228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B43-2125-4987-925A-5ABE949E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3D9-0BFA-4541-9599-0D3B2C70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5BF-6D15-415B-A673-7DC33B35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A14-1A82-4BCB-B426-46DB901A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8DE-7D34-41DF-9C68-BA981165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783-1B9C-418B-936E-1C79D624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C704-93A4-4228-A436-A6A3B176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5B2-6AC6-4CE9-8AA9-8C779F93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C549-1C6A-4636-AC38-75ED8E8C35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RC Logo"/>
          <p:cNvPicPr/>
          <p:nvPr/>
        </p:nvPicPr>
        <p:blipFill>
          <a:blip r:embed="rId1"/>
          <a:stretch/>
        </p:blipFill>
        <p:spPr>
          <a:xfrm>
            <a:off x="7404120" y="0"/>
            <a:ext cx="1739880" cy="11253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5"/>
          <p:cNvSpPr/>
          <p:nvPr/>
        </p:nvSpPr>
        <p:spPr>
          <a:xfrm>
            <a:off x="2423520" y="3933720"/>
            <a:ext cx="39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utscher Amate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Radio Club e.V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orte 9"/>
          <p:cNvSpPr/>
          <p:nvPr/>
        </p:nvSpPr>
        <p:spPr>
          <a:xfrm>
            <a:off x="900000" y="620640"/>
            <a:ext cx="7128000" cy="5545080"/>
          </a:xfrm>
          <a:custGeom>
            <a:avLst/>
            <a:gdLst>
              <a:gd name="textAreaLeft" fmla="*/ 1043640 w 7128000"/>
              <a:gd name="textAreaRight" fmla="*/ 6084360 w 7128000"/>
              <a:gd name="textAreaTop" fmla="*/ 811800 h 5545080"/>
              <a:gd name="textAreaBottom" fmla="*/ 4733280 h 5545080"/>
            </a:gdLst>
            <a:ahLst/>
            <a:rect l="textAreaLeft" t="textAreaTop" r="textAreaRight" b="textAreaBottom"/>
            <a:pathLst>
              <a:path w="7128792" h="5544616">
                <a:moveTo>
                  <a:pt x="7128792" y="2772308"/>
                </a:moveTo>
                <a:lnTo>
                  <a:pt x="7128792" y="2772308"/>
                </a:lnTo>
                <a:arcTo wR="3564396" hR="2772308" stAng="0" swAng="16200004"/>
                <a:lnTo>
                  <a:pt x="3564396" y="2772308"/>
                </a:lnTo>
                <a:close/>
              </a:path>
            </a:pathLst>
          </a:custGeom>
          <a:noFill/>
          <a:ln cap="rnd" w="507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0:04Z</dcterms:created>
  <dc:creator>Axel-</dc:creator>
  <dc:description/>
  <dc:language>en-US</dc:language>
  <cp:lastModifiedBy>Axel Tüner</cp:lastModifiedBy>
  <dcterms:modified xsi:type="dcterms:W3CDTF">2013-09-07T23:38:13Z</dcterms:modified>
  <cp:revision>6</cp:revision>
  <dc:subject/>
  <dc:title>Folie 1</dc:title>
</cp:coreProperties>
</file>