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355B-E9DC-4B4A-84D2-A5DD6E1E4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9A06-1D0B-451E-8D7F-B20974A7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E51C-1A93-4011-9C57-3044A61A0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5449-017C-44CE-BE8F-25A305BC2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F955-A4E4-4167-B07B-DE736C67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8EAF-3D33-4C17-AF63-D34F7FCD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6248-1E90-4053-8EBC-876FA6A4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64CE-EB6F-43C8-A0D5-D58D9588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7AA7-6DAB-407A-84B8-D1CF1162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CD0D-5D7F-4996-B67E-54EB280D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94C0-9B6D-4B5D-9620-CD639EB2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9FE6-6B38-4D40-8775-A1EF272B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F9B1-0BDF-4D84-97E9-C07BDAE8C8E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ARC Logo"/>
          <p:cNvPicPr/>
          <p:nvPr/>
        </p:nvPicPr>
        <p:blipFill>
          <a:blip r:embed="rId1"/>
          <a:stretch/>
        </p:blipFill>
        <p:spPr>
          <a:xfrm>
            <a:off x="7404120" y="0"/>
            <a:ext cx="1739880" cy="1125360"/>
          </a:xfrm>
          <a:prstGeom prst="rect">
            <a:avLst/>
          </a:prstGeom>
          <a:ln w="0">
            <a:noFill/>
          </a:ln>
        </p:spPr>
      </p:pic>
      <p:sp>
        <p:nvSpPr>
          <p:cNvPr id="42" name="Textfeld 5"/>
          <p:cNvSpPr/>
          <p:nvPr/>
        </p:nvSpPr>
        <p:spPr>
          <a:xfrm>
            <a:off x="1399320" y="3716280"/>
            <a:ext cx="673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Deutscher Amateur Radio Club e.V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ihandform 4"/>
          <p:cNvSpPr/>
          <p:nvPr/>
        </p:nvSpPr>
        <p:spPr>
          <a:xfrm>
            <a:off x="611280" y="1197000"/>
            <a:ext cx="8116920" cy="4994280"/>
          </a:xfrm>
          <a:custGeom>
            <a:avLst/>
            <a:gdLst/>
            <a:ahLst/>
            <a:rect l="l" t="t" r="r" b="b"/>
            <a:pathLst>
              <a:path w="8117098" h="4995081">
                <a:moveTo>
                  <a:pt x="382138" y="750627"/>
                </a:moveTo>
                <a:lnTo>
                  <a:pt x="382138" y="750627"/>
                </a:lnTo>
                <a:cubicBezTo>
                  <a:pt x="409433" y="718782"/>
                  <a:pt x="435576" y="685912"/>
                  <a:pt x="464024" y="655093"/>
                </a:cubicBezTo>
                <a:cubicBezTo>
                  <a:pt x="490207" y="626728"/>
                  <a:pt x="524499" y="605325"/>
                  <a:pt x="545911" y="573206"/>
                </a:cubicBezTo>
                <a:cubicBezTo>
                  <a:pt x="582305" y="518615"/>
                  <a:pt x="559558" y="541361"/>
                  <a:pt x="614150" y="504967"/>
                </a:cubicBezTo>
                <a:cubicBezTo>
                  <a:pt x="689069" y="392588"/>
                  <a:pt x="591114" y="521368"/>
                  <a:pt x="682389" y="450376"/>
                </a:cubicBezTo>
                <a:cubicBezTo>
                  <a:pt x="712859" y="426677"/>
                  <a:pt x="732157" y="389903"/>
                  <a:pt x="764275" y="368490"/>
                </a:cubicBezTo>
                <a:lnTo>
                  <a:pt x="805218" y="341194"/>
                </a:lnTo>
                <a:cubicBezTo>
                  <a:pt x="855261" y="266132"/>
                  <a:pt x="805218" y="329821"/>
                  <a:pt x="873457" y="272955"/>
                </a:cubicBezTo>
                <a:cubicBezTo>
                  <a:pt x="941610" y="216160"/>
                  <a:pt x="883390" y="242349"/>
                  <a:pt x="955344" y="218364"/>
                </a:cubicBezTo>
                <a:cubicBezTo>
                  <a:pt x="1005387" y="143299"/>
                  <a:pt x="955342" y="206993"/>
                  <a:pt x="1023583" y="150126"/>
                </a:cubicBezTo>
                <a:cubicBezTo>
                  <a:pt x="1091739" y="93330"/>
                  <a:pt x="1033514" y="119519"/>
                  <a:pt x="1105469" y="95535"/>
                </a:cubicBezTo>
                <a:cubicBezTo>
                  <a:pt x="1211296" y="24983"/>
                  <a:pt x="1156234" y="51317"/>
                  <a:pt x="1269242" y="13648"/>
                </a:cubicBezTo>
                <a:lnTo>
                  <a:pt x="1310186" y="0"/>
                </a:lnTo>
                <a:cubicBezTo>
                  <a:pt x="1628634" y="4549"/>
                  <a:pt x="1947297" y="1086"/>
                  <a:pt x="2265529" y="13648"/>
                </a:cubicBezTo>
                <a:cubicBezTo>
                  <a:pt x="2294278" y="14783"/>
                  <a:pt x="2320120" y="31845"/>
                  <a:pt x="2347415" y="40943"/>
                </a:cubicBezTo>
                <a:lnTo>
                  <a:pt x="2388359" y="54591"/>
                </a:lnTo>
                <a:cubicBezTo>
                  <a:pt x="2482215" y="117162"/>
                  <a:pt x="2439123" y="98808"/>
                  <a:pt x="2511189" y="122830"/>
                </a:cubicBezTo>
                <a:cubicBezTo>
                  <a:pt x="2524837" y="131929"/>
                  <a:pt x="2539531" y="139625"/>
                  <a:pt x="2552132" y="150126"/>
                </a:cubicBezTo>
                <a:cubicBezTo>
                  <a:pt x="2566959" y="162482"/>
                  <a:pt x="2577016" y="180363"/>
                  <a:pt x="2593075" y="191069"/>
                </a:cubicBezTo>
                <a:cubicBezTo>
                  <a:pt x="2605045" y="199049"/>
                  <a:pt x="2620370" y="200168"/>
                  <a:pt x="2634018" y="204717"/>
                </a:cubicBezTo>
                <a:cubicBezTo>
                  <a:pt x="2661314" y="232012"/>
                  <a:pt x="2694493" y="254484"/>
                  <a:pt x="2715905" y="286603"/>
                </a:cubicBezTo>
                <a:cubicBezTo>
                  <a:pt x="2725003" y="300251"/>
                  <a:pt x="2732303" y="315287"/>
                  <a:pt x="2743200" y="327546"/>
                </a:cubicBezTo>
                <a:cubicBezTo>
                  <a:pt x="2811188" y="404033"/>
                  <a:pt x="2803803" y="395243"/>
                  <a:pt x="2866030" y="436729"/>
                </a:cubicBezTo>
                <a:cubicBezTo>
                  <a:pt x="2877020" y="480690"/>
                  <a:pt x="2879524" y="507481"/>
                  <a:pt x="2906974" y="545911"/>
                </a:cubicBezTo>
                <a:cubicBezTo>
                  <a:pt x="2918192" y="561617"/>
                  <a:pt x="2934269" y="573206"/>
                  <a:pt x="2947917" y="586854"/>
                </a:cubicBezTo>
                <a:cubicBezTo>
                  <a:pt x="2952466" y="600502"/>
                  <a:pt x="2953585" y="615827"/>
                  <a:pt x="2961565" y="627797"/>
                </a:cubicBezTo>
                <a:cubicBezTo>
                  <a:pt x="3021934" y="718350"/>
                  <a:pt x="2985150" y="620376"/>
                  <a:pt x="3029803" y="709684"/>
                </a:cubicBezTo>
                <a:cubicBezTo>
                  <a:pt x="3086300" y="822679"/>
                  <a:pt x="2992530" y="674247"/>
                  <a:pt x="3070747" y="791570"/>
                </a:cubicBezTo>
                <a:cubicBezTo>
                  <a:pt x="3099151" y="905183"/>
                  <a:pt x="3064566" y="792856"/>
                  <a:pt x="3111690" y="887105"/>
                </a:cubicBezTo>
                <a:cubicBezTo>
                  <a:pt x="3118124" y="899972"/>
                  <a:pt x="3118352" y="915472"/>
                  <a:pt x="3125338" y="928048"/>
                </a:cubicBezTo>
                <a:cubicBezTo>
                  <a:pt x="3141270" y="956725"/>
                  <a:pt x="3161732" y="982639"/>
                  <a:pt x="3179929" y="1009935"/>
                </a:cubicBezTo>
                <a:cubicBezTo>
                  <a:pt x="3189027" y="1023583"/>
                  <a:pt x="3202037" y="1035317"/>
                  <a:pt x="3207224" y="1050878"/>
                </a:cubicBezTo>
                <a:cubicBezTo>
                  <a:pt x="3226059" y="1107382"/>
                  <a:pt x="3212892" y="1079851"/>
                  <a:pt x="3248168" y="1132764"/>
                </a:cubicBezTo>
                <a:cubicBezTo>
                  <a:pt x="3285455" y="1244633"/>
                  <a:pt x="3220963" y="1071489"/>
                  <a:pt x="3343702" y="1255594"/>
                </a:cubicBezTo>
                <a:cubicBezTo>
                  <a:pt x="3380563" y="1310885"/>
                  <a:pt x="3362109" y="1293044"/>
                  <a:pt x="3425589" y="1337481"/>
                </a:cubicBezTo>
                <a:cubicBezTo>
                  <a:pt x="3453206" y="1356813"/>
                  <a:pt x="3505401" y="1400659"/>
                  <a:pt x="3548418" y="1405720"/>
                </a:cubicBezTo>
                <a:cubicBezTo>
                  <a:pt x="3611833" y="1413180"/>
                  <a:pt x="3675797" y="1414818"/>
                  <a:pt x="3739487" y="1419367"/>
                </a:cubicBezTo>
                <a:cubicBezTo>
                  <a:pt x="3753135" y="1423916"/>
                  <a:pt x="3767563" y="1426581"/>
                  <a:pt x="3780430" y="1433015"/>
                </a:cubicBezTo>
                <a:cubicBezTo>
                  <a:pt x="3795101" y="1440351"/>
                  <a:pt x="3804988" y="1459566"/>
                  <a:pt x="3821374" y="1460311"/>
                </a:cubicBezTo>
                <a:lnTo>
                  <a:pt x="4080681" y="1446663"/>
                </a:lnTo>
                <a:cubicBezTo>
                  <a:pt x="4190947" y="1428285"/>
                  <a:pt x="4136317" y="1441765"/>
                  <a:pt x="4244454" y="1405720"/>
                </a:cubicBezTo>
                <a:lnTo>
                  <a:pt x="4285398" y="1392072"/>
                </a:lnTo>
                <a:lnTo>
                  <a:pt x="4326341" y="1378424"/>
                </a:lnTo>
                <a:cubicBezTo>
                  <a:pt x="4403955" y="1300810"/>
                  <a:pt x="4329223" y="1363336"/>
                  <a:pt x="4408227" y="1323833"/>
                </a:cubicBezTo>
                <a:cubicBezTo>
                  <a:pt x="4514045" y="1270923"/>
                  <a:pt x="4387211" y="1317189"/>
                  <a:pt x="4490114" y="1282890"/>
                </a:cubicBezTo>
                <a:cubicBezTo>
                  <a:pt x="4636307" y="1136693"/>
                  <a:pt x="4414393" y="1362472"/>
                  <a:pt x="4572000" y="1187355"/>
                </a:cubicBezTo>
                <a:cubicBezTo>
                  <a:pt x="4597823" y="1158663"/>
                  <a:pt x="4616438" y="1114831"/>
                  <a:pt x="4653887" y="1105469"/>
                </a:cubicBezTo>
                <a:cubicBezTo>
                  <a:pt x="4671380" y="1101096"/>
                  <a:pt x="4729840" y="1087963"/>
                  <a:pt x="4749421" y="1078173"/>
                </a:cubicBezTo>
                <a:cubicBezTo>
                  <a:pt x="4764092" y="1070838"/>
                  <a:pt x="4777764" y="1061379"/>
                  <a:pt x="4790365" y="1050878"/>
                </a:cubicBezTo>
                <a:cubicBezTo>
                  <a:pt x="4805192" y="1038522"/>
                  <a:pt x="4816481" y="1022291"/>
                  <a:pt x="4831308" y="1009935"/>
                </a:cubicBezTo>
                <a:cubicBezTo>
                  <a:pt x="4843909" y="999434"/>
                  <a:pt x="4859650" y="993140"/>
                  <a:pt x="4872251" y="982639"/>
                </a:cubicBezTo>
                <a:cubicBezTo>
                  <a:pt x="4887078" y="970283"/>
                  <a:pt x="4898368" y="954052"/>
                  <a:pt x="4913195" y="941696"/>
                </a:cubicBezTo>
                <a:cubicBezTo>
                  <a:pt x="4925796" y="931195"/>
                  <a:pt x="4941537" y="924901"/>
                  <a:pt x="4954138" y="914400"/>
                </a:cubicBezTo>
                <a:cubicBezTo>
                  <a:pt x="5006939" y="870399"/>
                  <a:pt x="4984621" y="869686"/>
                  <a:pt x="5049672" y="832514"/>
                </a:cubicBezTo>
                <a:cubicBezTo>
                  <a:pt x="5062162" y="825377"/>
                  <a:pt x="5076967" y="823415"/>
                  <a:pt x="5090615" y="818866"/>
                </a:cubicBezTo>
                <a:cubicBezTo>
                  <a:pt x="5120797" y="788685"/>
                  <a:pt x="5134502" y="769627"/>
                  <a:pt x="5172502" y="750627"/>
                </a:cubicBezTo>
                <a:cubicBezTo>
                  <a:pt x="5185369" y="744193"/>
                  <a:pt x="5200869" y="743965"/>
                  <a:pt x="5213445" y="736979"/>
                </a:cubicBezTo>
                <a:cubicBezTo>
                  <a:pt x="5242122" y="721047"/>
                  <a:pt x="5264210" y="692762"/>
                  <a:pt x="5295332" y="682388"/>
                </a:cubicBezTo>
                <a:lnTo>
                  <a:pt x="5377218" y="655093"/>
                </a:lnTo>
                <a:cubicBezTo>
                  <a:pt x="5390866" y="645994"/>
                  <a:pt x="5405561" y="638298"/>
                  <a:pt x="5418162" y="627797"/>
                </a:cubicBezTo>
                <a:cubicBezTo>
                  <a:pt x="5432989" y="615441"/>
                  <a:pt x="5442233" y="596227"/>
                  <a:pt x="5459105" y="586854"/>
                </a:cubicBezTo>
                <a:cubicBezTo>
                  <a:pt x="5484256" y="572881"/>
                  <a:pt x="5513696" y="568656"/>
                  <a:pt x="5540992" y="559558"/>
                </a:cubicBezTo>
                <a:lnTo>
                  <a:pt x="5581935" y="545911"/>
                </a:lnTo>
                <a:cubicBezTo>
                  <a:pt x="5595583" y="536812"/>
                  <a:pt x="5607802" y="525076"/>
                  <a:pt x="5622878" y="518615"/>
                </a:cubicBezTo>
                <a:cubicBezTo>
                  <a:pt x="5640118" y="511226"/>
                  <a:pt x="5659503" y="510357"/>
                  <a:pt x="5677469" y="504967"/>
                </a:cubicBezTo>
                <a:cubicBezTo>
                  <a:pt x="5705028" y="496699"/>
                  <a:pt x="5732060" y="486770"/>
                  <a:pt x="5759356" y="477672"/>
                </a:cubicBezTo>
                <a:lnTo>
                  <a:pt x="5800299" y="464024"/>
                </a:lnTo>
                <a:cubicBezTo>
                  <a:pt x="5813947" y="459475"/>
                  <a:pt x="5829272" y="458356"/>
                  <a:pt x="5841242" y="450376"/>
                </a:cubicBezTo>
                <a:cubicBezTo>
                  <a:pt x="5874021" y="428524"/>
                  <a:pt x="5884284" y="416496"/>
                  <a:pt x="5923129" y="409433"/>
                </a:cubicBezTo>
                <a:cubicBezTo>
                  <a:pt x="5959215" y="402872"/>
                  <a:pt x="5995917" y="400334"/>
                  <a:pt x="6032311" y="395785"/>
                </a:cubicBezTo>
                <a:cubicBezTo>
                  <a:pt x="6045959" y="391236"/>
                  <a:pt x="6059298" y="385626"/>
                  <a:pt x="6073254" y="382137"/>
                </a:cubicBezTo>
                <a:cubicBezTo>
                  <a:pt x="6195242" y="351641"/>
                  <a:pt x="6283397" y="361733"/>
                  <a:pt x="6428096" y="354842"/>
                </a:cubicBezTo>
                <a:cubicBezTo>
                  <a:pt x="6441744" y="350293"/>
                  <a:pt x="6454820" y="343382"/>
                  <a:pt x="6469039" y="341194"/>
                </a:cubicBezTo>
                <a:cubicBezTo>
                  <a:pt x="6638772" y="315081"/>
                  <a:pt x="6689367" y="331539"/>
                  <a:pt x="6892120" y="341194"/>
                </a:cubicBezTo>
                <a:cubicBezTo>
                  <a:pt x="6917991" y="349818"/>
                  <a:pt x="6994212" y="377552"/>
                  <a:pt x="7028598" y="382137"/>
                </a:cubicBezTo>
                <a:cubicBezTo>
                  <a:pt x="7078405" y="388778"/>
                  <a:pt x="7128681" y="391236"/>
                  <a:pt x="7178723" y="395785"/>
                </a:cubicBezTo>
                <a:cubicBezTo>
                  <a:pt x="7209240" y="403414"/>
                  <a:pt x="7295263" y="423438"/>
                  <a:pt x="7315200" y="436729"/>
                </a:cubicBezTo>
                <a:lnTo>
                  <a:pt x="7397087" y="491320"/>
                </a:lnTo>
                <a:lnTo>
                  <a:pt x="7438030" y="518615"/>
                </a:lnTo>
                <a:cubicBezTo>
                  <a:pt x="7447129" y="532263"/>
                  <a:pt x="7453728" y="547960"/>
                  <a:pt x="7465326" y="559558"/>
                </a:cubicBezTo>
                <a:cubicBezTo>
                  <a:pt x="7476924" y="571156"/>
                  <a:pt x="7496022" y="574046"/>
                  <a:pt x="7506269" y="586854"/>
                </a:cubicBezTo>
                <a:cubicBezTo>
                  <a:pt x="7515256" y="598088"/>
                  <a:pt x="7511937" y="615827"/>
                  <a:pt x="7519917" y="627797"/>
                </a:cubicBezTo>
                <a:cubicBezTo>
                  <a:pt x="7530623" y="643856"/>
                  <a:pt x="7548504" y="653913"/>
                  <a:pt x="7560860" y="668740"/>
                </a:cubicBezTo>
                <a:cubicBezTo>
                  <a:pt x="7571361" y="681341"/>
                  <a:pt x="7577655" y="697083"/>
                  <a:pt x="7588156" y="709684"/>
                </a:cubicBezTo>
                <a:cubicBezTo>
                  <a:pt x="7629529" y="759332"/>
                  <a:pt x="7635967" y="743882"/>
                  <a:pt x="7670042" y="805218"/>
                </a:cubicBezTo>
                <a:cubicBezTo>
                  <a:pt x="7711845" y="880463"/>
                  <a:pt x="7678115" y="858579"/>
                  <a:pt x="7724633" y="914400"/>
                </a:cubicBezTo>
                <a:cubicBezTo>
                  <a:pt x="7736989" y="929227"/>
                  <a:pt x="7753221" y="940516"/>
                  <a:pt x="7765577" y="955343"/>
                </a:cubicBezTo>
                <a:cubicBezTo>
                  <a:pt x="7776078" y="967944"/>
                  <a:pt x="7783338" y="982940"/>
                  <a:pt x="7792872" y="996287"/>
                </a:cubicBezTo>
                <a:cubicBezTo>
                  <a:pt x="7851930" y="1078969"/>
                  <a:pt x="7818358" y="1019965"/>
                  <a:pt x="7861111" y="1105469"/>
                </a:cubicBezTo>
                <a:cubicBezTo>
                  <a:pt x="7866301" y="1131417"/>
                  <a:pt x="7874419" y="1186677"/>
                  <a:pt x="7888406" y="1214651"/>
                </a:cubicBezTo>
                <a:cubicBezTo>
                  <a:pt x="7895741" y="1229322"/>
                  <a:pt x="7908366" y="1240923"/>
                  <a:pt x="7915702" y="1255594"/>
                </a:cubicBezTo>
                <a:cubicBezTo>
                  <a:pt x="7922136" y="1268461"/>
                  <a:pt x="7925398" y="1282705"/>
                  <a:pt x="7929350" y="1296537"/>
                </a:cubicBezTo>
                <a:cubicBezTo>
                  <a:pt x="7934503" y="1314573"/>
                  <a:pt x="7933692" y="1334843"/>
                  <a:pt x="7942998" y="1351129"/>
                </a:cubicBezTo>
                <a:cubicBezTo>
                  <a:pt x="7952574" y="1367887"/>
                  <a:pt x="7970293" y="1378424"/>
                  <a:pt x="7983941" y="1392072"/>
                </a:cubicBezTo>
                <a:cubicBezTo>
                  <a:pt x="8025352" y="1516303"/>
                  <a:pt x="7961829" y="1320095"/>
                  <a:pt x="8011236" y="1501254"/>
                </a:cubicBezTo>
                <a:cubicBezTo>
                  <a:pt x="8018806" y="1529012"/>
                  <a:pt x="8029433" y="1555845"/>
                  <a:pt x="8038532" y="1583140"/>
                </a:cubicBezTo>
                <a:lnTo>
                  <a:pt x="8052180" y="1624084"/>
                </a:lnTo>
                <a:cubicBezTo>
                  <a:pt x="8071620" y="3121048"/>
                  <a:pt x="8080449" y="2226076"/>
                  <a:pt x="8052180" y="2975212"/>
                </a:cubicBezTo>
                <a:cubicBezTo>
                  <a:pt x="8035452" y="3418514"/>
                  <a:pt x="8117098" y="3280446"/>
                  <a:pt x="8011236" y="3439236"/>
                </a:cubicBezTo>
                <a:cubicBezTo>
                  <a:pt x="8006687" y="3461982"/>
                  <a:pt x="8003692" y="3485096"/>
                  <a:pt x="7997589" y="3507475"/>
                </a:cubicBezTo>
                <a:cubicBezTo>
                  <a:pt x="7990019" y="3535233"/>
                  <a:pt x="7975936" y="3561148"/>
                  <a:pt x="7970293" y="3589361"/>
                </a:cubicBezTo>
                <a:cubicBezTo>
                  <a:pt x="7962504" y="3628308"/>
                  <a:pt x="7954559" y="3673654"/>
                  <a:pt x="7942998" y="3712191"/>
                </a:cubicBezTo>
                <a:cubicBezTo>
                  <a:pt x="7934730" y="3739750"/>
                  <a:pt x="7924801" y="3766782"/>
                  <a:pt x="7915702" y="3794078"/>
                </a:cubicBezTo>
                <a:lnTo>
                  <a:pt x="7888406" y="3875964"/>
                </a:lnTo>
                <a:cubicBezTo>
                  <a:pt x="7883857" y="3889612"/>
                  <a:pt x="7884932" y="3906736"/>
                  <a:pt x="7874759" y="3916908"/>
                </a:cubicBezTo>
                <a:lnTo>
                  <a:pt x="7833815" y="3957851"/>
                </a:lnTo>
                <a:cubicBezTo>
                  <a:pt x="7799514" y="4060758"/>
                  <a:pt x="7845783" y="3933916"/>
                  <a:pt x="7792872" y="4039737"/>
                </a:cubicBezTo>
                <a:cubicBezTo>
                  <a:pt x="7762095" y="4101290"/>
                  <a:pt x="7800820" y="4062955"/>
                  <a:pt x="7751929" y="4121624"/>
                </a:cubicBezTo>
                <a:cubicBezTo>
                  <a:pt x="7739573" y="4136451"/>
                  <a:pt x="7723342" y="4147740"/>
                  <a:pt x="7710986" y="4162567"/>
                </a:cubicBezTo>
                <a:cubicBezTo>
                  <a:pt x="7700485" y="4175168"/>
                  <a:pt x="7694191" y="4190910"/>
                  <a:pt x="7683690" y="4203511"/>
                </a:cubicBezTo>
                <a:cubicBezTo>
                  <a:pt x="7671334" y="4218338"/>
                  <a:pt x="7655103" y="4229627"/>
                  <a:pt x="7642747" y="4244454"/>
                </a:cubicBezTo>
                <a:cubicBezTo>
                  <a:pt x="7611277" y="4282217"/>
                  <a:pt x="7619362" y="4296437"/>
                  <a:pt x="7574508" y="4326340"/>
                </a:cubicBezTo>
                <a:cubicBezTo>
                  <a:pt x="7562538" y="4334320"/>
                  <a:pt x="7546141" y="4333002"/>
                  <a:pt x="7533565" y="4339988"/>
                </a:cubicBezTo>
                <a:cubicBezTo>
                  <a:pt x="7504888" y="4355920"/>
                  <a:pt x="7478974" y="4376382"/>
                  <a:pt x="7451678" y="4394579"/>
                </a:cubicBezTo>
                <a:lnTo>
                  <a:pt x="7451678" y="4394579"/>
                </a:lnTo>
                <a:cubicBezTo>
                  <a:pt x="7433481" y="4408227"/>
                  <a:pt x="7414205" y="4420544"/>
                  <a:pt x="7397087" y="4435523"/>
                </a:cubicBezTo>
                <a:cubicBezTo>
                  <a:pt x="7377720" y="4452469"/>
                  <a:pt x="7364319" y="4476475"/>
                  <a:pt x="7342496" y="4490114"/>
                </a:cubicBezTo>
                <a:cubicBezTo>
                  <a:pt x="7326590" y="4500055"/>
                  <a:pt x="7306102" y="4499212"/>
                  <a:pt x="7287905" y="4503761"/>
                </a:cubicBezTo>
                <a:cubicBezTo>
                  <a:pt x="7274257" y="4512860"/>
                  <a:pt x="7261633" y="4523721"/>
                  <a:pt x="7246962" y="4531057"/>
                </a:cubicBezTo>
                <a:cubicBezTo>
                  <a:pt x="7234095" y="4537491"/>
                  <a:pt x="7218509" y="4537567"/>
                  <a:pt x="7206018" y="4544705"/>
                </a:cubicBezTo>
                <a:cubicBezTo>
                  <a:pt x="7186269" y="4555990"/>
                  <a:pt x="7171772" y="4575476"/>
                  <a:pt x="7151427" y="4585648"/>
                </a:cubicBezTo>
                <a:cubicBezTo>
                  <a:pt x="7100301" y="4611211"/>
                  <a:pt x="7055212" y="4614611"/>
                  <a:pt x="7001302" y="4626591"/>
                </a:cubicBezTo>
                <a:cubicBezTo>
                  <a:pt x="6982992" y="4630660"/>
                  <a:pt x="6964908" y="4635690"/>
                  <a:pt x="6946711" y="4640239"/>
                </a:cubicBezTo>
                <a:cubicBezTo>
                  <a:pt x="6919415" y="4658436"/>
                  <a:pt x="6896650" y="4686873"/>
                  <a:pt x="6864824" y="4694830"/>
                </a:cubicBezTo>
                <a:lnTo>
                  <a:pt x="6755642" y="4722126"/>
                </a:lnTo>
                <a:cubicBezTo>
                  <a:pt x="6741994" y="4731224"/>
                  <a:pt x="6729370" y="4742086"/>
                  <a:pt x="6714699" y="4749421"/>
                </a:cubicBezTo>
                <a:cubicBezTo>
                  <a:pt x="6692883" y="4760329"/>
                  <a:pt x="6639572" y="4770887"/>
                  <a:pt x="6619165" y="4776717"/>
                </a:cubicBezTo>
                <a:cubicBezTo>
                  <a:pt x="6473875" y="4818227"/>
                  <a:pt x="6742625" y="4751234"/>
                  <a:pt x="6496335" y="4804012"/>
                </a:cubicBezTo>
                <a:cubicBezTo>
                  <a:pt x="6274065" y="4851642"/>
                  <a:pt x="6506897" y="4823824"/>
                  <a:pt x="6168789" y="4844955"/>
                </a:cubicBezTo>
                <a:cubicBezTo>
                  <a:pt x="6146043" y="4849504"/>
                  <a:pt x="6123054" y="4852977"/>
                  <a:pt x="6100550" y="4858603"/>
                </a:cubicBezTo>
                <a:cubicBezTo>
                  <a:pt x="6086593" y="4862092"/>
                  <a:pt x="6073650" y="4869130"/>
                  <a:pt x="6059606" y="4872251"/>
                </a:cubicBezTo>
                <a:cubicBezTo>
                  <a:pt x="6032593" y="4878254"/>
                  <a:pt x="6004855" y="4880472"/>
                  <a:pt x="5977720" y="4885899"/>
                </a:cubicBezTo>
                <a:cubicBezTo>
                  <a:pt x="5959327" y="4889577"/>
                  <a:pt x="5941783" y="4897582"/>
                  <a:pt x="5923129" y="4899546"/>
                </a:cubicBezTo>
                <a:cubicBezTo>
                  <a:pt x="5855114" y="4906705"/>
                  <a:pt x="5786651" y="4908645"/>
                  <a:pt x="5718412" y="4913194"/>
                </a:cubicBezTo>
                <a:cubicBezTo>
                  <a:pt x="5664285" y="4924020"/>
                  <a:pt x="5590366" y="4937679"/>
                  <a:pt x="5540992" y="4954137"/>
                </a:cubicBezTo>
                <a:cubicBezTo>
                  <a:pt x="5527344" y="4958686"/>
                  <a:pt x="5514092" y="4964664"/>
                  <a:pt x="5500048" y="4967785"/>
                </a:cubicBezTo>
                <a:cubicBezTo>
                  <a:pt x="5430783" y="4983178"/>
                  <a:pt x="5350334" y="4988216"/>
                  <a:pt x="5281684" y="4995081"/>
                </a:cubicBezTo>
                <a:lnTo>
                  <a:pt x="2361063" y="4981433"/>
                </a:lnTo>
                <a:cubicBezTo>
                  <a:pt x="2233607" y="4980380"/>
                  <a:pt x="2106166" y="4975270"/>
                  <a:pt x="1978926" y="4967785"/>
                </a:cubicBezTo>
                <a:cubicBezTo>
                  <a:pt x="1874079" y="4961618"/>
                  <a:pt x="1665027" y="4940490"/>
                  <a:pt x="1665027" y="4940490"/>
                </a:cubicBezTo>
                <a:cubicBezTo>
                  <a:pt x="1646830" y="4935941"/>
                  <a:pt x="1628938" y="4929926"/>
                  <a:pt x="1610436" y="4926842"/>
                </a:cubicBezTo>
                <a:cubicBezTo>
                  <a:pt x="1513382" y="4910666"/>
                  <a:pt x="1406423" y="4906420"/>
                  <a:pt x="1310186" y="4899546"/>
                </a:cubicBezTo>
                <a:cubicBezTo>
                  <a:pt x="1298364" y="4896591"/>
                  <a:pt x="1229882" y="4880954"/>
                  <a:pt x="1214651" y="4872251"/>
                </a:cubicBezTo>
                <a:cubicBezTo>
                  <a:pt x="1097740" y="4805445"/>
                  <a:pt x="1215922" y="4859511"/>
                  <a:pt x="1119117" y="4790364"/>
                </a:cubicBezTo>
                <a:cubicBezTo>
                  <a:pt x="1102562" y="4778539"/>
                  <a:pt x="1081778" y="4773852"/>
                  <a:pt x="1064526" y="4763069"/>
                </a:cubicBezTo>
                <a:cubicBezTo>
                  <a:pt x="1028932" y="4740823"/>
                  <a:pt x="963612" y="4679390"/>
                  <a:pt x="928048" y="4667535"/>
                </a:cubicBezTo>
                <a:lnTo>
                  <a:pt x="887105" y="4653887"/>
                </a:lnTo>
                <a:cubicBezTo>
                  <a:pt x="878006" y="4640239"/>
                  <a:pt x="872617" y="4623190"/>
                  <a:pt x="859809" y="4612943"/>
                </a:cubicBezTo>
                <a:cubicBezTo>
                  <a:pt x="848576" y="4603956"/>
                  <a:pt x="831733" y="4605730"/>
                  <a:pt x="818866" y="4599296"/>
                </a:cubicBezTo>
                <a:cubicBezTo>
                  <a:pt x="804195" y="4591961"/>
                  <a:pt x="792164" y="4580138"/>
                  <a:pt x="777923" y="4572000"/>
                </a:cubicBezTo>
                <a:cubicBezTo>
                  <a:pt x="760259" y="4561906"/>
                  <a:pt x="741529" y="4553803"/>
                  <a:pt x="723332" y="4544705"/>
                </a:cubicBezTo>
                <a:cubicBezTo>
                  <a:pt x="664540" y="4456517"/>
                  <a:pt x="732081" y="4546455"/>
                  <a:pt x="655093" y="4476466"/>
                </a:cubicBezTo>
                <a:cubicBezTo>
                  <a:pt x="617009" y="4441844"/>
                  <a:pt x="582305" y="4403678"/>
                  <a:pt x="545911" y="4367284"/>
                </a:cubicBezTo>
                <a:cubicBezTo>
                  <a:pt x="532263" y="4353636"/>
                  <a:pt x="513600" y="4343603"/>
                  <a:pt x="504968" y="4326340"/>
                </a:cubicBezTo>
                <a:cubicBezTo>
                  <a:pt x="495869" y="4308143"/>
                  <a:pt x="492058" y="4286135"/>
                  <a:pt x="477672" y="4271749"/>
                </a:cubicBezTo>
                <a:cubicBezTo>
                  <a:pt x="463286" y="4257363"/>
                  <a:pt x="441278" y="4253552"/>
                  <a:pt x="423081" y="4244454"/>
                </a:cubicBezTo>
                <a:cubicBezTo>
                  <a:pt x="381117" y="4160523"/>
                  <a:pt x="407069" y="4206787"/>
                  <a:pt x="341195" y="4107976"/>
                </a:cubicBezTo>
                <a:cubicBezTo>
                  <a:pt x="332096" y="4094328"/>
                  <a:pt x="325497" y="4078631"/>
                  <a:pt x="313899" y="4067033"/>
                </a:cubicBezTo>
                <a:cubicBezTo>
                  <a:pt x="247710" y="4000844"/>
                  <a:pt x="273583" y="4033854"/>
                  <a:pt x="232012" y="3971499"/>
                </a:cubicBezTo>
                <a:cubicBezTo>
                  <a:pt x="169883" y="3785106"/>
                  <a:pt x="237667" y="3975595"/>
                  <a:pt x="177421" y="3835021"/>
                </a:cubicBezTo>
                <a:cubicBezTo>
                  <a:pt x="171754" y="3821798"/>
                  <a:pt x="169441" y="3807301"/>
                  <a:pt x="163774" y="3794078"/>
                </a:cubicBezTo>
                <a:cubicBezTo>
                  <a:pt x="142998" y="3745600"/>
                  <a:pt x="136593" y="3739659"/>
                  <a:pt x="109183" y="3698543"/>
                </a:cubicBezTo>
                <a:cubicBezTo>
                  <a:pt x="77482" y="3571742"/>
                  <a:pt x="115350" y="3729379"/>
                  <a:pt x="81887" y="3562066"/>
                </a:cubicBezTo>
                <a:cubicBezTo>
                  <a:pt x="78208" y="3543673"/>
                  <a:pt x="72788" y="3525672"/>
                  <a:pt x="68239" y="3507475"/>
                </a:cubicBezTo>
                <a:cubicBezTo>
                  <a:pt x="63690" y="3439236"/>
                  <a:pt x="59644" y="3370962"/>
                  <a:pt x="54592" y="3302758"/>
                </a:cubicBezTo>
                <a:cubicBezTo>
                  <a:pt x="50545" y="3248127"/>
                  <a:pt x="43273" y="3193716"/>
                  <a:pt x="40944" y="3138985"/>
                </a:cubicBezTo>
                <a:cubicBezTo>
                  <a:pt x="34172" y="2979840"/>
                  <a:pt x="33792" y="2820470"/>
                  <a:pt x="27296" y="2661314"/>
                </a:cubicBezTo>
                <a:cubicBezTo>
                  <a:pt x="24692" y="2597515"/>
                  <a:pt x="17511" y="2533980"/>
                  <a:pt x="13648" y="2470245"/>
                </a:cubicBezTo>
                <a:cubicBezTo>
                  <a:pt x="8412" y="2383848"/>
                  <a:pt x="4549" y="2297373"/>
                  <a:pt x="0" y="2210937"/>
                </a:cubicBezTo>
                <a:cubicBezTo>
                  <a:pt x="4549" y="1933433"/>
                  <a:pt x="5488" y="1655846"/>
                  <a:pt x="13648" y="1378424"/>
                </a:cubicBezTo>
                <a:cubicBezTo>
                  <a:pt x="14594" y="1346270"/>
                  <a:pt x="23044" y="1314776"/>
                  <a:pt x="27296" y="1282890"/>
                </a:cubicBezTo>
                <a:cubicBezTo>
                  <a:pt x="32143" y="1246535"/>
                  <a:pt x="34914" y="1209886"/>
                  <a:pt x="40944" y="1173708"/>
                </a:cubicBezTo>
                <a:cubicBezTo>
                  <a:pt x="49475" y="1122523"/>
                  <a:pt x="55262" y="1123595"/>
                  <a:pt x="68239" y="1078173"/>
                </a:cubicBezTo>
                <a:cubicBezTo>
                  <a:pt x="72396" y="1063622"/>
                  <a:pt x="85910" y="999963"/>
                  <a:pt x="95535" y="982639"/>
                </a:cubicBezTo>
                <a:cubicBezTo>
                  <a:pt x="111467" y="953962"/>
                  <a:pt x="122830" y="918949"/>
                  <a:pt x="150126" y="900752"/>
                </a:cubicBezTo>
                <a:cubicBezTo>
                  <a:pt x="203039" y="865477"/>
                  <a:pt x="175508" y="878644"/>
                  <a:pt x="232012" y="859809"/>
                </a:cubicBezTo>
                <a:cubicBezTo>
                  <a:pt x="241111" y="846161"/>
                  <a:pt x="245399" y="827559"/>
                  <a:pt x="259308" y="818866"/>
                </a:cubicBezTo>
                <a:cubicBezTo>
                  <a:pt x="283707" y="803617"/>
                  <a:pt x="313899" y="800668"/>
                  <a:pt x="341195" y="791570"/>
                </a:cubicBezTo>
                <a:cubicBezTo>
                  <a:pt x="354843" y="787021"/>
                  <a:pt x="371966" y="788096"/>
                  <a:pt x="382138" y="777923"/>
                </a:cubicBezTo>
                <a:lnTo>
                  <a:pt x="382138" y="750627"/>
                </a:lnTo>
                <a:close/>
              </a:path>
            </a:pathLst>
          </a:custGeom>
          <a:noFill/>
          <a:ln cap="rnd" w="507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7T15:20:04Z</dcterms:created>
  <dc:creator>Axel-</dc:creator>
  <dc:description/>
  <dc:language>en-US</dc:language>
  <cp:lastModifiedBy>Axel Tüner</cp:lastModifiedBy>
  <dcterms:modified xsi:type="dcterms:W3CDTF">2013-09-07T23:35:18Z</dcterms:modified>
  <cp:revision>4</cp:revision>
  <dc:subject/>
  <dc:title>Folie 1</dc:title>
</cp:coreProperties>
</file>