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9494-060F-4E71-8501-171F0E915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D9A5-676D-4E5F-9D75-96866F7C4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9D5E-3CAA-4C76-A67F-58DFB28B0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B26C-F7B2-4242-B93C-193971128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3346-2807-423C-AAE0-1BD896351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D51A-79BC-4FD3-A121-F6E156843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2D73-8D03-4882-BE18-361318FCE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9DF4-B0C2-4965-A9F6-DA8A58828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CFF4-F5F8-42D2-B2DA-A8C0A823F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D657-0388-4144-BBFE-0A440AD1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2B45-5B5D-42DF-9CBC-06379839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E459-C89A-4786-A39A-C5492ADD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E3528-2852-4E6B-9578-1A39F4A311C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DARC Logo"/>
          <p:cNvPicPr/>
          <p:nvPr/>
        </p:nvPicPr>
        <p:blipFill>
          <a:blip r:embed="rId1"/>
          <a:stretch/>
        </p:blipFill>
        <p:spPr>
          <a:xfrm>
            <a:off x="0" y="0"/>
            <a:ext cx="1739880" cy="1125360"/>
          </a:xfrm>
          <a:prstGeom prst="rect">
            <a:avLst/>
          </a:prstGeom>
          <a:ln w="0">
            <a:noFill/>
          </a:ln>
        </p:spPr>
      </p:pic>
      <p:sp>
        <p:nvSpPr>
          <p:cNvPr id="42" name="Textfeld 5"/>
          <p:cNvSpPr/>
          <p:nvPr/>
        </p:nvSpPr>
        <p:spPr>
          <a:xfrm>
            <a:off x="1326240" y="2924280"/>
            <a:ext cx="673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Deutscher Amateur Radio Club e.V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Freihandform 4"/>
          <p:cNvSpPr/>
          <p:nvPr/>
        </p:nvSpPr>
        <p:spPr>
          <a:xfrm>
            <a:off x="468360" y="549360"/>
            <a:ext cx="8496360" cy="5832360"/>
          </a:xfrm>
          <a:custGeom>
            <a:avLst/>
            <a:gdLst/>
            <a:ahLst/>
            <a:rect l="l" t="t" r="r" b="b"/>
            <a:pathLst>
              <a:path w="8234149" h="5081515">
                <a:moveTo>
                  <a:pt x="527713" y="1160059"/>
                </a:moveTo>
                <a:cubicBezTo>
                  <a:pt x="1055426" y="905301"/>
                  <a:pt x="2167719" y="0"/>
                  <a:pt x="3298208" y="81886"/>
                </a:cubicBezTo>
                <a:cubicBezTo>
                  <a:pt x="4428697" y="163772"/>
                  <a:pt x="6569122" y="966715"/>
                  <a:pt x="7310650" y="1651378"/>
                </a:cubicBezTo>
                <a:cubicBezTo>
                  <a:pt x="8052178" y="2336041"/>
                  <a:pt x="8234149" y="3971498"/>
                  <a:pt x="7747379" y="4189862"/>
                </a:cubicBezTo>
                <a:cubicBezTo>
                  <a:pt x="7260609" y="4408226"/>
                  <a:pt x="5388590" y="2841009"/>
                  <a:pt x="4390029" y="2961564"/>
                </a:cubicBezTo>
                <a:cubicBezTo>
                  <a:pt x="3391468" y="3082119"/>
                  <a:pt x="2397455" y="4744871"/>
                  <a:pt x="1756011" y="4913193"/>
                </a:cubicBezTo>
                <a:cubicBezTo>
                  <a:pt x="1114567" y="5081515"/>
                  <a:pt x="812041" y="4521958"/>
                  <a:pt x="541361" y="3971498"/>
                </a:cubicBezTo>
                <a:cubicBezTo>
                  <a:pt x="270681" y="3421038"/>
                  <a:pt x="129654" y="2079008"/>
                  <a:pt x="131928" y="1610435"/>
                </a:cubicBezTo>
                <a:cubicBezTo>
                  <a:pt x="134202" y="1141862"/>
                  <a:pt x="0" y="1414817"/>
                  <a:pt x="527713" y="1160059"/>
                </a:cubicBezTo>
                <a:close/>
              </a:path>
            </a:pathLst>
          </a:custGeom>
          <a:noFill/>
          <a:ln cap="rnd" w="507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7T15:20:04Z</dcterms:created>
  <dc:creator>Axel-</dc:creator>
  <dc:description/>
  <dc:language>en-US</dc:language>
  <cp:lastModifiedBy>Axel Tüner</cp:lastModifiedBy>
  <dcterms:modified xsi:type="dcterms:W3CDTF">2013-09-07T15:29:24Z</dcterms:modified>
  <cp:revision>4</cp:revision>
  <dc:subject/>
  <dc:title>Folie 1</dc:title>
</cp:coreProperties>
</file>